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093E-60DF-405E-A72A-63059532F9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09/18/illegal-drugs-facts-infographic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873C-033B-4238-A86C-B4B8F4FB10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AB4A-545D-49FC-B4E5-563FF77285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357-A489-415D-B047-B25A7265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2F2-3378-4DE2-913B-C409D7D6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CD1-46B6-4DE5-83FC-348EFB61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FDA-36F8-463E-815B-30097FEC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82F-72F5-42F1-B455-16C86EFF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5C0-14C1-4933-B502-E20164BB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055-0EDA-48CD-AFA3-0CF0D6CC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828-FB15-4E5C-9A45-9468BAE6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EE3-715A-49B6-8FD7-8866B6B9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8A4-3EAB-4B43-9262-71B69F6F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350-3883-4DF1-9D0E-CE49FEF0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2D4-2700-46FD-A27E-D402836F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C342-1D1B-49B1-A2F9-E2130C0F7DF4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24264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a kilo of heroin cost on a UK stre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the farmer get for a kilo of opium poppies (used to make the heroin)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id the number of cannabis and cocaine users in the world rise or fall between 1998 and 2008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percentage of US teenagers use cannabi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o more people die per year from drugs, alcohol or tobacco? What is the percentage differenc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are the 5 most popular drugs in the worl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(check your answers on the next slid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475920"/>
            <a:ext cx="77612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Now read this to find out more about world drug use and argument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4720" y="3807000"/>
            <a:ext cx="3897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Linda Ruas</cp:lastModifiedBy>
  <dcterms:modified xsi:type="dcterms:W3CDTF">2014-05-26T20:48:19Z</dcterms:modified>
  <cp:revision>22</cp:revision>
  <dc:subject/>
  <dc:title>DRUGS</dc:title>
</cp:coreProperties>
</file>